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2D695277-F0B9-4611-880C-837AF24BDAD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4E5D51B7-AAD3-439C-8083-EC9E9981628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7600" y="1752480"/>
            <a:ext cx="6553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1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in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increase when reviews are added (the golf score effec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1380" t="20892" r="1861" b="12174"/>
          <a:stretch/>
        </p:blipFill>
        <p:spPr>
          <a:xfrm>
            <a:off x="571680" y="938160"/>
            <a:ext cx="81388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in Co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increase when reviews are added (the golf score effec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1380" t="18148" r="1501" b="12122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Comp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as a percentage of tot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dec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e to increased awar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care in early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 as more quality activities are introduced in early process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cator of the effectiveness of design and code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446" t="20965" r="1759" b="12190"/>
          <a:stretch/>
        </p:blipFill>
        <p:spPr>
          <a:xfrm>
            <a:off x="571680" y="938160"/>
            <a:ext cx="81388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Te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as a percentage of tot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see a smaller early decline than compile, improvements here generally come more slowly and require increased attention to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decrease over time as more quality activities are introduced in early process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rcRect l="1638" t="20909" r="1724" b="12174"/>
          <a:stretch/>
        </p:blipFill>
        <p:spPr>
          <a:xfrm>
            <a:off x="571680" y="938160"/>
            <a:ext cx="81388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Versus 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ts of compile defects often implies lots of tes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students will see this relation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may average out the ef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4997520" y="2833560"/>
          <a:ext cx="3713040" cy="35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7520" y="2833560"/>
                    <a:ext cx="3713040" cy="3556080"/>
                  </a:xfrm>
                  <a:prstGeom prst="rect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Object 3"/>
          <p:cNvGraphicFramePr/>
          <p:nvPr/>
        </p:nvGraphicFramePr>
        <p:xfrm>
          <a:off x="571680" y="938160"/>
          <a:ext cx="4003560" cy="354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938160"/>
                    <a:ext cx="40035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1 level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2224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sent only composite data (unless you want to use your personal data as an example)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data presentation include those in PSP0, plu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ize vs. Development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tal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injected in desig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injected in coding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found in compil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found in tes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ile versus test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vs.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proving the point that larger programs take more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ata shows trend but usually doesn’t have a good correl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show a good correl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early as PSP1 start talking about selecting size measures that correlate well with developmen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3726000" y="1460520"/>
            <a:ext cx="485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e class level there is usually not a good correlation, it’s more like a tren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have a good correl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otal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kely see an initial decline in the number of injected defects due to the increased awareness of defects being injected and a resulting increase in care taken in the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body injects a lot of defects; this is not a reflection on the individ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1411" t="20945" r="1775" b="12158"/>
          <a:stretch/>
        </p:blipFill>
        <p:spPr>
          <a:xfrm>
            <a:off x="571680" y="938160"/>
            <a:ext cx="8138880" cy="543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4086360" y="1460520"/>
            <a:ext cx="485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gh defect densities (prog 1 &amp; 4) can occur on small programs that have more defects than norma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4Z</dcterms:modified>
  <cp:revision>209</cp:revision>
  <dc:subject/>
  <dc:title>No Slide Title</dc:title>
</cp:coreProperties>
</file>